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F99-6F06-4E08-962C-2A367B5C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A00-0825-44C4-A65F-D7DC2116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46E26-0A7F-4495-A660-849F12F1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8635C-70C3-47F8-95E6-077BE017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8E6B5-BD56-451A-8500-A67DBF2D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4A4A7-BA18-4CFF-A5B1-0E946B2F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1CD95-3873-471B-9DFA-C7DD6C5C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ED1FB-B09B-474C-9183-CE1B1B88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345A6-EC9E-4226-91E0-93069614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D8C25-F8FF-49BB-BC5D-07F4170A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3EBD5-54E6-41DD-9747-B42A251D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A5BA6-C8CA-42D6-ABCA-BE19B6FD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7D5-189A-4BD3-B99E-1CD6233D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0E4B6-059A-4F15-9DD4-6BCC2731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2F5FF-C0D7-4CAA-97D2-093EA55F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E460D-9111-477D-B31A-DAA44A4C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20774-C0A9-4F97-A2C7-27A3FB12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CE3A7-2DA2-4E6B-9685-EDC16BAD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F1365-DAB5-4187-8568-56651EF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E421B-A24E-4BC9-A04F-1FBE271D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BAF88-1E52-4364-A42C-90E32BE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DC7A8-DD36-4BFA-8B64-7329C1A2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5BE92-210B-4B68-A8E5-9D0D6256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FC8-5B4E-4409-9B29-388A2C9F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B3A1D-56E7-4015-9BC1-E7C20015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A02A5-5062-42F2-BD23-3C304810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931E6-3533-4999-A7DA-DCFC7DEC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3824B-376D-4CC5-946E-04C95780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5F25E-E872-49B0-885B-A2CCC918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DD024-8BB3-40B3-A00F-C905F668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77C56-7164-4AEC-8268-5AF646F0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13FAF-B6B5-410B-994D-F923E504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5122A-95FB-4ED4-BA33-4B2506AB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034AC-A8C2-4A4D-A3AB-17FEE554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9BBB-AF9E-4031-A480-9AE7F578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0C045-559B-4764-84F2-A319ABA4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0A57B-4CB1-472A-8172-3CF53EF8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EEC90-2507-4E4F-9F9D-6EDE44B5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0676E-4054-497B-A724-9E619448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ECB2D-5241-4B87-BC9A-1BD72700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725AD-12B0-4EB9-81C8-694C6736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357EE-54C8-4D88-91ED-4A933B03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1283D-1559-46A8-97B1-65AED70F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1C371-02DD-49FE-BA7E-A5511EF7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9B72A-045C-4C17-8E58-E0F876E3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5B1D-3CA8-4B31-97F9-8E58C204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E0640-5800-4CA3-9FC6-6EA8971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18D56-1D21-42AB-8B92-AC1C8E86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87F39-9D00-469E-AF2E-0DFDF7B5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20917-44F4-493E-A838-449553DB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77042-2B4E-47DF-9602-D2F4144F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3F947-5817-43C9-A290-7CFCF2C4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8CF94-E635-4937-A73B-0DFA4916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F9281-D515-4C49-BB8E-F31D6198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796A3-BF17-4D9F-994E-F851913B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25362-0115-4BCE-9F41-5EB99644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1408-0EA6-457F-9B8E-BB96AACB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16691-0B16-4AAB-85C2-1291C262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38B90-F18B-4014-983E-B845C1D2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7AC28-AC2A-4846-A7A3-AC2CF59A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462E2-8652-4A67-95AC-210101D4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DE7CD-2B59-4411-9389-965EC91F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95299-ECF5-4D67-8912-CA64C237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6A8B7-2EA9-46CD-A2AB-E7763918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AF8D2-9B16-481A-9A39-2C9A8D20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C4A30-7BFC-4CA6-AF46-F37D7025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D38F2-FEE9-471F-82A7-AAF384E1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BEEE-C2E5-4AEA-98D7-1FEC8440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F5F6D-4E5E-46A6-9050-FCDA52D8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19DE1-BAE1-4CFA-8172-54AFCF94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E4F2E-20E5-4195-B57A-9EBC2D14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2C3109-4D31-43C6-8E2D-775DCD12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FF880-7D3D-4C2E-9E1A-322B57DA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B3ADD-D57C-4E76-A23C-50E44758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1DC81-115F-41A5-B614-601835F3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529A5-F870-414A-B2EF-8673D73E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3715A-98F8-4086-B1D5-46A4F18D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A392C-8FD8-4007-AF4E-D25124A5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E3D6-2446-4B9E-9EAE-2ED802CB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DFD35-D968-40B2-A34A-428A08B6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C7081-E981-4340-BBCC-E575B245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C3717-A710-48AC-B07B-E05B9E2C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6A4B8-F596-4E43-98CB-3A74D444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8A71A-C22B-4165-918D-5018E3AD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FB538-F8E1-4CB9-A820-9D47031E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B0949-7074-486B-9A7B-DDDA7615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E667DF-6A41-4498-994F-13A3F831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2A2050-A618-4423-A15B-9CC6DD9E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06C6A-BD22-4EEF-A895-A3EB7B1F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7BFD-58A2-4125-AB77-067BED42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F9111-9D7D-4F96-86D1-37755725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9FF7A0-D57D-4227-A73E-52F93BE2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C60D1-BA8E-4D5D-8D80-B080B108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6022A-8641-400B-9D38-151456A7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E8DBA-5965-430F-9B9F-7F7A942A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2601C-3463-46F3-A5F9-C10174E3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EF983-091E-46BB-BD2C-9692C81A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11F6A-99D6-48C8-93FD-2BB49B3B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AA91E-993B-4186-97B3-CC26CB12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29137-9245-4D5A-921B-FEAD3043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3255-1140-4297-AF0D-8E32C8C0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5E7B5-6872-4017-A4DC-CB5D5122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3E628-D540-4D05-9E5B-CD4E33E5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3B69F-49C2-44DF-A4DE-BD6D10B6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A02B2-9FF8-471B-B099-7D96DE68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7250A-FBBF-4B70-87FA-D0C0ADBB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40A62-FD17-41E6-8B0C-1524C092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0C0A75-7BA8-44F7-B15B-4791C3E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C279F-E0BE-44FE-905A-721D0323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1160AD-3DD7-4850-9DA0-9A5BA158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E487E-304F-4422-99A9-E584E78C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335-1010-4051-842A-6DADF22D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5B0A-053A-42F4-8DCD-537DC248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ED261-752F-4CEC-BF0F-B8AC2779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D3A7A-AB6A-470F-B14E-BA662304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92C5E0-5773-4CF8-85C1-99C04B58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08994-2BAD-4A6C-89EB-42C9DF51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D6DC8-C47A-4643-8C07-35CDAD15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17204-3E91-4FF6-A722-495DE746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6F737E-F8E1-4460-ABE0-786BCF34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DC51A-26DA-4A2D-8D54-DAEC4D45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94871-0252-4911-8D3B-8F12B41E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35418-5678-47B2-B458-8D24C4DF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A403-4CB7-466B-AC19-63AF5F72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3A9C6-759B-4388-970A-2976DE8F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89B06A-D450-419E-9609-9EE089F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5D0CCC-C709-48B0-A95E-92A30637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D8002-5823-463A-A5B0-28025343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EF2BB-33CA-4781-B200-73CF4984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B25EE3-5EE7-48CC-ADB5-EBC990D1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947F9-991D-4DC3-B1E6-E186BCE0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C437-330B-436E-972B-5D70A2BF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0672-E19E-4648-8D16-C8DB10E0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30B9-4C9C-43FE-891F-C4B72E03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A02D-424B-43CD-BE3D-BF89C933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71BD-0C1E-4A7B-BCA0-3E3180BF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B0C0-FE71-42DF-AFE9-66C68040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8083E-0C31-4697-8907-EA445C25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7978-9586-497F-8277-1BA8001A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0C3-DC42-4F2E-AF8C-8600C76B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59B9-1B7D-4F38-9334-804A7844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3983-4ED3-482F-A793-DFF7E8C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415C-B131-4A34-9AA0-49F24857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ACF2-47AC-4F04-910E-BC7BAE8A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CCD3-E65A-4677-BAAD-9F5E2BEB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D587-0A1B-48B5-9E85-EB9B8B15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9593-FB06-4A9C-8E9A-BE66A483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9515F-416A-4BA1-9085-7418E727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03445-B900-44A1-8A90-A319C91B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C6796-65C2-41DF-AA0E-9F47C793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628-49CD-46BD-BD45-C2529594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9C9B-844F-4F59-AE28-D2405B35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8CA9-DE53-4D99-984F-F8E72608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F5C3-7E92-4159-8B12-14C90323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D6CF-5B63-4446-A474-C265493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7B517-0EF0-45E2-ADD7-A59043FE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423A9-E392-45DE-80B9-4D06EFA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CC77F-0D6C-41B3-897B-D2CBA5BF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F701-A0B4-4D24-9434-06A9A0E1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B94B-61E9-4223-AE3C-2998EDC8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F6A18-5178-4B49-8F9C-4E5D9334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92E-51C5-4396-BE46-224F018B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BB8B6-77D9-461B-A8D6-68DCAA6F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01F32-0290-405E-A8FC-2A434EE2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7684F-1C19-4DD5-BD09-59738967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EC76B-B80A-4CE8-A8C2-A5926921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F7253-CE4A-4FBD-87C9-7ECC1A95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A9649-803E-4C7F-9233-FB5FDD8B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C2C24-F1B2-4CE0-8F83-DC1DFD3C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788CE-A8F9-42BE-AED8-01BE1D6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61A5-70C9-4ECD-8A2E-91965E80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740CE-DFAB-45D8-A718-A1971C12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13F-80A4-475B-9D80-658B3BDA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20A6A-919E-4A21-AC9C-CB803B7F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7DDB6-A39B-460F-8BF3-38F9726D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0755A-F69D-4DE6-8CFE-C880A634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576E-D837-4490-BFCE-94077BCF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FF8AF-4280-4691-8752-77B22774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82382-7E52-45DD-A6D5-213D4B57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25595-3BE1-40A7-8A09-86A0554A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47AB8-769A-4346-B8F5-66F55385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65A98-7CF8-4297-9EF3-C055F6EA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D8818-FCE0-4666-812C-F20551D2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74F-4646-4421-BB20-3FDC6A53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99859-D37D-48E8-9903-EBBF9642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ADA2-EB3D-42CC-84CB-73F9468A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75847-E952-4B7B-B571-CDC0F8DA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6D9D3-F9D3-4806-8BAA-118A5DE5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3E2BC-9F62-4D36-A23E-DCEB81DA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4AEE2-E2D8-4ECE-8B10-6A369FDC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14E20-4B37-4187-B6B4-6E621579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F5BFA-08F5-47FF-AF03-039CD17A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EB0C8-0A6D-483B-829F-AA4FD432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F6B07-62BB-4757-92A2-9C44C69C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A5B-5A89-4104-9BFC-F2E321E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5AAB5-BAF5-4FA2-AA6F-28B071C7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57792-F9A9-4024-AA67-5010330A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07A0B-58D9-409E-B3D1-EBF9C83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F5BD4-85CE-44B9-A34F-5EF3EB20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ECBAA-0980-4FA8-AB1A-E3F065AF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13F7C-7F4D-4E3F-A8FE-973EEC3F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49F59-203B-479E-B02F-444BB0E8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AB7B1-A227-42CE-9D22-6F17D437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7605F-3FFD-4CFC-B9ED-60C760BB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18D7F-711C-407E-A53B-7C56D500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C11-D020-4F9E-969C-3514A062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D4A5F-CA10-4572-9045-D2669659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CC131-8C9A-4843-A3CF-CD268A4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3CB01-2FD5-4607-9C19-2F48A89F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ECED-2A70-445E-8E39-73639D1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97E8C-16FC-415C-8304-05A76391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DBC0F-EABC-4767-AC93-82FBBF10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A1FF0-F5B8-430D-B6A6-83E1B8B2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F685D-DE3C-492E-90A5-673E5DEB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8B091-A61B-43A2-A1BB-8B6F92CB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D3806-5066-47EE-B713-F44E4ED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C632-A0E9-4CC3-B610-3931E8DAAB9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61F0-F595-4CED-99C6-0E1F3B77A66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0483-EA3C-4E0D-8CFC-7FC136C354D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5E92-554C-47C2-A09E-8229BFBB9EA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2C09-9BA1-4B8C-A58F-558B84E81E1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595A-73C2-46C2-A012-9852DEC2309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ACB2-DA53-4838-A16F-F5FF58C5770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5549-2D2D-4BF8-9569-42E6A50ABAC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7231-8E9C-4092-977D-5F48FEDD4D8B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1CF7-E62F-4327-BB3C-F6941F2DD0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AACA-05ED-4ADB-AD01-3893285963F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EDE5-BC0F-4F79-B33B-7ED09C5353F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DD95-5354-4B6A-8DF4-AC82D4770C3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7EA1-A8C5-4E4A-AAF8-72568C876A0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0426-47B3-4C00-92C8-E4253A6E107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6EE5-E5C8-4639-BCED-787BCFD2465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8728-77D8-4966-9956-D51F1D64082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824-5C8B-4213-A0D5-010963B830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4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4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605E-562B-42EF-9D03-854C6AF7DF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2018-D400-4F90-8F7A-5C36305A4B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D8F6-D393-44F9-8233-6389426C20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9506-B71C-480E-8274-727E3BF21D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E5A6-0193-421A-8914-726546D4EF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D157-3506-45D5-B5D0-D0FD1608B6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694C-5E40-4478-A6B0-F405843139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6FD1-B647-46E1-A2B7-120726389C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8C55-6BD9-4433-ADF7-56BBDD45C0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B087-42E0-43D3-BAF1-BBBB7C9312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F3A5-5C08-4F69-949A-E084F3421F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31A7-8798-466A-90F2-E80AA3220A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F5E8-8571-43E9-8CB2-587AEDEDA6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6E3B-9CBD-4D09-AD89-22C2E859BA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C73A-CF64-4F8E-BBF7-47C51D1015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1A3F-6631-4D8C-8646-1C88A5F593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F513-8D17-40BF-8819-35D5D48416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4A14-3817-4AF1-95C6-73C9635D12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B4D4-CACE-4A27-95BD-3FCDB0948C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DB94-74A0-49F6-BBF1-61A9470245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AD76-C29B-46DA-8ABC-B366DA898F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5E60-B470-4B00-B3C1-D51CC34BEF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F7E5-0E77-4E1B-8A12-4DCB804190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E724-D66B-42A6-B5F7-0F7B175C7D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2371-0A1E-4BAE-B376-690F9F7292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54F3-481E-4C99-A650-58CC2EDD38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7C30-9635-43F1-949D-C007092015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8C44-57B8-4142-A387-0B4BC83271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D128-FBE2-4457-8AA3-C9404AA3C3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17B1-9C3D-473D-AF83-2EC7279B35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B18B-9089-4628-9A58-606EE69E66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B7CA-D804-418E-9230-17185BEEDE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E2DC-1EF3-4D54-A754-FFEE679052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397A-4F5F-49E5-9634-6F868BCF63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1B40-5729-4EAB-8AC1-1CDF80448B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9925-A9F8-4ABB-A117-025CF2027F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BBED-02BB-4AFC-9AEB-83BC5E3F23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8FDD-9260-45A7-AAB6-FA2E9694C3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86ED-CC4D-45D3-86F3-1714DE2F79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450C-B1BA-422E-A2AC-270FA0116A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FBD6-AFD9-499C-9494-91E0BD894C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BBFC-75D8-43F6-B178-B0C4C6E898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13A4-BFDB-4A4A-A089-A073CC3D7B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F175-EB58-4E51-BA4B-5196E3751A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EEDD-D62C-4C43-8102-008CA538C0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BAD4-79B4-4D4A-9305-449387C2C3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90E0-B637-413C-AF88-AAB35F24AD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F315-443C-480E-AD7C-BB1CFDD0EA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6AEF-7E9D-4E06-BB49-63DCE91715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D02F-5F45-44B4-AABF-EA4A3361CE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1DE6-DFA4-4FDF-B8B6-64318D9D57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69F3-9277-4D12-AE6A-4966B2DBB0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C909-2B51-492A-9429-EFD8D29B16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DE99-4AE4-4F87-8348-92AAB6736F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B659-7487-45A0-8A75-D24DA61C72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8240-E98C-4552-A694-6D8F4A808C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C2CD-F493-4DCC-A241-C92B9DBE3A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4-07-22T09:46:15Z</dcterms:modified>
  <cp:revision>101</cp:revision>
  <dc:subject/>
  <dc:title>Aims and Objectives</dc:title>
</cp:coreProperties>
</file>